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F6A7-391C-4750-B58D-BBA55BF4D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9CD8-7DBA-4BC7-B5DF-001230D35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it called up in advance with it enlar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D30-6BF8-41EB-AE1F-4C8C5B31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BA5-C44D-44CF-8F61-B763E2A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4FC8-4381-474B-A044-E6EFB840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DD7-A535-45BA-95B1-1332EE48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10FB-7106-43E6-99CD-968FDA58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A8C-52EA-4613-8470-92A0E2CD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D4A-1476-4E47-A1A3-B80C3BA0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898-7CC6-4CDE-91A5-9A975DAC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0CA-8B32-4994-A4BE-4E498FB8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A48-18FB-4646-937A-DAB92AEB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CC4-200D-4370-A3C1-62D06833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2AF4-0C53-4AD5-B4CC-2BEFF301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9439-9BAA-466D-B647-444B8F741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00160" y="930240"/>
            <a:ext cx="85424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50400"/>
            <a:ext cx="9055080" cy="6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2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ttp://www.enchantedlearning.com/usa/states/florida/map.GIF"/>
          <p:cNvPicPr/>
          <p:nvPr/>
        </p:nvPicPr>
        <p:blipFill>
          <a:blip r:embed="rId2"/>
          <a:stretch/>
        </p:blipFill>
        <p:spPr>
          <a:xfrm>
            <a:off x="3479760" y="2133720"/>
            <a:ext cx="33242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3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62120" y="1047600"/>
            <a:ext cx="87217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4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930240"/>
            <a:ext cx="101599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612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5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1100160"/>
            <a:ext cx="1015992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6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1523880"/>
            <a:ext cx="1015992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7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930240"/>
            <a:ext cx="1015992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8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68120" y="930240"/>
            <a:ext cx="99936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240" y="50760"/>
            <a:ext cx="9055080" cy="11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9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930240"/>
            <a:ext cx="1015992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#10.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1523880"/>
            <a:ext cx="101599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Elements on a Ma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pass R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rdinal directions (N, S, E, W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mediate (NW, NE, SE, SW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g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r Sc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t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et M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Compass Ros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42289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d to show directions on a map. Shows which way north, south, east, and west a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4826160" y="2031840"/>
            <a:ext cx="453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Legend or Ke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4280" y="3521160"/>
            <a:ext cx="3383280" cy="36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ows what the symbols on the map stand fo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4486320" y="1692360"/>
            <a:ext cx="43624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Bar Scal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4280" y="1488960"/>
            <a:ext cx="3129120" cy="58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 tool that is used to find the real distance between two places. (Ex. How many miles from one city to the nex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3301920" y="1492200"/>
            <a:ext cx="6858000" cy="612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4116240" y="5302080"/>
            <a:ext cx="548352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2320" y="1743120"/>
            <a:ext cx="90550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d to show what the map is map of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Titl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143000" y="2254320"/>
            <a:ext cx="748332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Inset Map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14200" y="1828440"/>
            <a:ext cx="321336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d to show the bigger picture of what and where the map is showin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3809880" y="1438200"/>
            <a:ext cx="5948640" cy="57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cc"/>
                </a:solidFill>
                <a:latin typeface="Arial"/>
              </a:rPr>
              <a:t>Elements Review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52240" y="1828440"/>
            <a:ext cx="905508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Each map, write down what elements are found on the map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me maps may have all five elements, some may only have one or tw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umber your paper 1-10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od Luck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0" y="846000"/>
            <a:ext cx="10159920" cy="67741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822320" y="304920"/>
            <a:ext cx="16052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#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icrosoft Office User</cp:lastModifiedBy>
  <dcterms:modified xsi:type="dcterms:W3CDTF">2016-08-25T01:41:44Z</dcterms:modified>
  <cp:revision>2</cp:revision>
  <dc:subject/>
  <dc:title>PowerPoint Presentation</dc:title>
</cp:coreProperties>
</file>